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3E2-7318-4780-AA27-A3D2AD6E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10A-C846-4D43-BA6B-AE3D6A68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700-8F15-4A46-9148-9575F616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155-DD41-49C6-8BF3-EE748F22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88D-54F1-4774-B845-ED773005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71C-4F0D-49C0-9547-54E087D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DAB-CFC4-4E52-81AB-83D31745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2E4-F75B-4DAF-9574-7931AFE2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CD0-3E4B-4897-ABC2-24F5D0E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FE1-87A0-4046-A549-7D675858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D04-503F-4D8F-B949-6446F9A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1B0-015C-4816-9F33-D86A47A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23BD-A967-4A16-B7C2-7CA15F7F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147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648320" cy="714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7080" y="1789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784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1724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29000" y="2286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00200"/>
            <a:ext cx="2895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59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34520" y="304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257800" cy="447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182880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962520"/>
            <a:ext cx="1143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2:18:04Z</dcterms:created>
  <dc:creator>grahams</dc:creator>
  <dc:description/>
  <dc:language>en-US</dc:language>
  <cp:lastModifiedBy>grahams</cp:lastModifiedBy>
  <dcterms:modified xsi:type="dcterms:W3CDTF">2012-03-22T12:52:51Z</dcterms:modified>
  <cp:revision>2</cp:revision>
  <dc:subject/>
  <dc:title>Slide 1</dc:title>
</cp:coreProperties>
</file>